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0C4-510A-4BFA-A830-470F9D5B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85D-694E-44F2-9E04-50376CCB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34B-8FC3-49BC-B888-F7241C86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231-F1D1-45C9-9175-A8F887AF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B44-80BC-405C-8B96-315E9774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45E-CBB3-4258-85C3-2E01ECE8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DDD-F7A6-4677-8719-B18DA35B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C56-C20C-4A27-A8C9-00A8D024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329-EB3E-4BDE-A7B1-F4FEB492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2F6-E6C5-456D-87A2-B31706B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103-3BB7-40EF-829D-9E86A41F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69F-B13C-487C-B03E-B7B01F5B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978C-E458-43FE-BBDA-C3AA50A26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opy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972 and 19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5" descr="tree-cover-a1.gif"/>
          <p:cNvPicPr/>
          <p:nvPr/>
        </p:nvPicPr>
        <p:blipFill>
          <a:blip r:embed="rId1"/>
          <a:stretch/>
        </p:blipFill>
        <p:spPr>
          <a:xfrm>
            <a:off x="750960" y="380880"/>
            <a:ext cx="694512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6:26:00Z</dcterms:created>
  <dc:creator>tbaker</dc:creator>
  <dc:description/>
  <dc:language>en-US</dc:language>
  <cp:lastModifiedBy>tbaker</cp:lastModifiedBy>
  <dcterms:modified xsi:type="dcterms:W3CDTF">2009-04-20T16:29:01Z</dcterms:modified>
  <cp:revision>1</cp:revision>
  <dc:subject/>
  <dc:title>Canopy Changes</dc:title>
</cp:coreProperties>
</file>